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8485-0749-4359-90F9-54080DD29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5DCE-65A1-4ED6-A9F0-175FA68AEF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6A40-F59C-4BCB-BA3D-706942C92C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FD25-757F-4976-8879-C54043A52E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2866-201E-471C-BDD4-9522DF0DEE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CC64-D41E-4AF0-92A3-83FE6237A6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3447-BEE8-4B85-B54A-A0675C842D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AB4A-4174-4A0B-8D8E-4F5A07FF36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5C46-D558-4119-963B-22540DA184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C051-4EC7-436F-9924-BE5E120797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A155-F1FD-447E-B645-D832C18419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CADC-24BD-432F-899B-7D8881A5E4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4F06-E6B1-4ED4-BE6C-30144B399B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7356-7401-4FDA-8F34-AF7A145ACF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C5B7-8484-49A5-8788-E560DB45E6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7BB1-96EF-4039-88F9-1FB46D61A5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DAF5-C12F-4741-9817-9CD2581EB6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D552-6628-4268-B934-F4949538F4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CEC7-0651-4286-87C2-8AE7355DC5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C644-F78D-4745-9B44-CAFFEF7985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2493-1BCF-493A-AB9D-B41E66DA7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E177-5943-482E-AC53-98E5872C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F58D-4417-4339-9AED-BB0A03557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DF44-36F3-4225-88E8-81906F5F3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B591-3247-4E43-88B4-C5EBA75BA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7EFC-ECEB-453D-B417-7C034302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CCAA-C167-47AF-A5A1-8A2B4C1F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822F3-2D8E-494D-8BE9-7227B97A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16AB8-885E-427E-B9EE-35A613CF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DA8A-9EF8-4A9B-B264-D97D9217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7E088-6283-4BFB-A5EA-2DEBCDB1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E8EE-B467-42B8-8B6D-1475EE9B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A98A4-7179-4C97-AEB9-4D07DF9E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5ADA-BC65-45F8-89CF-19CCA0E1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4A66-1F9B-4DE3-ADB3-7D910C8A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512F-A894-41D2-AC71-8DDAC3D09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04886-9B65-461B-A088-FA4CB2CA2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313F-C0CB-4D26-AFD3-545DB223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3B6A-B1EF-48DF-B44C-C62B0D83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3833-F052-4DA2-9A87-DEE4CD35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6CCE-10D4-406A-88EF-A3E2B2EB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2B0E-6743-4AFD-B173-A4FA0159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D9C2-0A10-4DAC-B2EC-AF1325D8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7A87-43ED-4B73-A69C-43D7BA30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7825-D305-4319-99B5-3A501702D3C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2CF5-69B1-4700-B548-8A15096485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addula@caldwellschools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96804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Rewarding </a:t>
            </a:r>
            <a:r>
              <a:rPr b="0" lang="en-US" sz="4000" spc="-1" strike="noStrike" u="sng">
                <a:solidFill>
                  <a:srgbClr val="ffcc00"/>
                </a:solidFill>
                <a:uFillTx/>
                <a:latin typeface="Tahoma"/>
              </a:rPr>
              <a:t>PAWS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-itive Behavior</a:t>
            </a:r>
            <a:endParaRPr b="1" lang="en-US" sz="40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Adrienne Dula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Assistant Principal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Gamewell Element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4" descr="Back to School Bulldog[1]"/>
          <p:cNvPicPr/>
          <p:nvPr/>
        </p:nvPicPr>
        <p:blipFill>
          <a:blip r:embed="rId1"/>
          <a:stretch/>
        </p:blipFill>
        <p:spPr>
          <a:xfrm>
            <a:off x="6477120" y="2895480"/>
            <a:ext cx="1923840" cy="27273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914400" y="243756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Creative Incentives and Fund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  <a:ea typeface="Tahoma"/>
              </a:rPr>
              <a:t>Bulldog Does His Bes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 the B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inforce Rules for Younger Stu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 Treasures Publis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8" descr="03-25-2012 08;27;47PM"/>
          <p:cNvPicPr/>
          <p:nvPr/>
        </p:nvPicPr>
        <p:blipFill>
          <a:blip r:embed="rId1"/>
          <a:stretch/>
        </p:blipFill>
        <p:spPr>
          <a:xfrm>
            <a:off x="5105520" y="1981080"/>
            <a:ext cx="3733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6" descr="03-28-2012 09;05;26PM"/>
          <p:cNvPicPr/>
          <p:nvPr/>
        </p:nvPicPr>
        <p:blipFill>
          <a:blip r:embed="rId1"/>
          <a:stretch/>
        </p:blipFill>
        <p:spPr>
          <a:xfrm>
            <a:off x="914400" y="304920"/>
            <a:ext cx="76392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03-28-2012 09;09;34PM"/>
          <p:cNvPicPr/>
          <p:nvPr/>
        </p:nvPicPr>
        <p:blipFill>
          <a:blip r:embed="rId1"/>
          <a:stretch/>
        </p:blipFill>
        <p:spPr>
          <a:xfrm>
            <a:off x="990720" y="533520"/>
            <a:ext cx="7696080" cy="59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6" descr="IMG_0411"/>
          <p:cNvPicPr/>
          <p:nvPr/>
        </p:nvPicPr>
        <p:blipFill>
          <a:blip r:embed="rId1"/>
          <a:stretch/>
        </p:blipFill>
        <p:spPr>
          <a:xfrm>
            <a:off x="1143000" y="762120"/>
            <a:ext cx="739152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Results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146" name="Object 4"/>
          <p:cNvGraphicFramePr/>
          <p:nvPr/>
        </p:nvGraphicFramePr>
        <p:xfrm>
          <a:off x="762120" y="2079720"/>
          <a:ext cx="7162560" cy="477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79720"/>
                    <a:ext cx="716256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Text Box 6"/>
          <p:cNvSpPr/>
          <p:nvPr/>
        </p:nvSpPr>
        <p:spPr>
          <a:xfrm>
            <a:off x="2209680" y="25146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5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4114800" y="4632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2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5943600" y="48006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1066680" y="137160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Total Bus Referrals by School Ye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7696080" y="518004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3% decrease in 3 yea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360" y="274320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Tahoma"/>
              </a:rPr>
              <a:t>Bully-Busters</a:t>
            </a:r>
            <a:endParaRPr b="1" lang="en-US" sz="66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Keys to Success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volve Every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powering Oth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iste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ministrative Sup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Reflections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s Insp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BIS Reflection Cla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at video is about me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1066680" y="137160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If I knew then, what I know now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2590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Tahoma"/>
                <a:ea typeface="Tahoma"/>
              </a:rPr>
              <a:t>Questions</a:t>
            </a:r>
            <a:endParaRPr b="1" lang="en-US" sz="66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drienne Dula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Davenport A+ School</a:t>
            </a:r>
            <a:br>
              <a:rPr sz="4400"/>
            </a:br>
            <a:r>
              <a:rPr b="0" lang="en-US" sz="44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addula@caldwellschools.com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oday’s Objectives…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22096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wa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inforc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fle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Gamewell Elementary School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87488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62 Students, Grades PK-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ldwell County - Foothills of western N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proximately 78% Free &amp; Reduced; Transi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95% Attendance R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ild Family Support Team (CFS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een Ribbon Scho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ed into a school implementing PB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ccff"/>
                </a:solidFill>
                <a:latin typeface="Tahoma"/>
              </a:rPr>
              <a:t>Four Principals in 4 years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Rewarding Positive Behavior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0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lldog Ticke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ekly Draw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gnature Ca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nounce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nch with Admi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ward Teac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08240" y="1981080"/>
            <a:ext cx="370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o Bas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corn &amp; a Mov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nch on the St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lldog Café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owser Pa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tended Re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y at the Pa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School-wide Support</a:t>
            </a:r>
            <a:endParaRPr b="1" lang="en-US" sz="40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hool Improvement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dget Line I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siness Partnerships (Food L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ent Tal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buscartoon"/>
          <p:cNvPicPr/>
          <p:nvPr/>
        </p:nvPicPr>
        <p:blipFill>
          <a:blip r:embed="rId1"/>
          <a:stretch/>
        </p:blipFill>
        <p:spPr>
          <a:xfrm>
            <a:off x="1905120" y="2057400"/>
            <a:ext cx="5638680" cy="39481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ahoma"/>
              </a:rPr>
              <a:t>Bus Riders Behaving Badl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  <a:ea typeface="Tahoma"/>
              </a:rPr>
              <a:t>Bus Riders Behaving Badly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2010-2011 school year, 40% of all referrals were bus rel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cific bus routes accounted for 35% of referr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specific grade level had 38% of all referr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ied peak months for referr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2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" dur="2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Best Behaved Bus 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sted Expect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pportunity to earn a PAW each wee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rivers Distributed Bulldog Ticke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ekly Bus Route Rewar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us Riders of the Wee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achers Volunte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ccff"/>
                </a:solidFill>
                <a:latin typeface="Tahoma"/>
              </a:rPr>
              <a:t>Reinforcing Rules with Younger Rid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21" descr=""/>
          <p:cNvPicPr/>
          <p:nvPr/>
        </p:nvPicPr>
        <p:blipFill>
          <a:blip r:embed="rId1"/>
          <a:srcRect l="50253" t="15583" r="24389" b="40260"/>
          <a:stretch/>
        </p:blipFill>
        <p:spPr>
          <a:xfrm>
            <a:off x="5791320" y="2133720"/>
            <a:ext cx="3151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Best Behaved Bus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cognized on morning announce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psicle passes redeemed in the cafeter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assigned sea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s Drivers recogniz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s Riders of the Wee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4" descr="MC900134537[1]"/>
          <p:cNvPicPr/>
          <p:nvPr/>
        </p:nvPicPr>
        <p:blipFill>
          <a:blip r:embed="rId1"/>
          <a:stretch/>
        </p:blipFill>
        <p:spPr>
          <a:xfrm>
            <a:off x="6338880" y="3962520"/>
            <a:ext cx="20653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1T20:06:53Z</dcterms:created>
  <dc:creator>ADula</dc:creator>
  <dc:description/>
  <dc:language>en-US</dc:language>
  <cp:lastModifiedBy>Adrienne Dula</cp:lastModifiedBy>
  <dcterms:modified xsi:type="dcterms:W3CDTF">2013-09-10T20:51:12Z</dcterms:modified>
  <cp:revision>86</cp:revision>
  <dc:subject/>
  <dc:title>Slide 1</dc:title>
</cp:coreProperties>
</file>